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1CC-6AB2-496A-9431-D7AF7B9C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EE8-021A-454D-8DE7-4CE905DA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4C83-4215-4C97-8DCE-47B17734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819-B624-496C-B51C-800F9C78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FBA-BEFB-4E71-BF8C-4A7B324B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282-2763-4008-8EB4-0C86ADFB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EF6B-ABAC-4ECF-BE72-6552C9DB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701-F2FA-4A8E-98B1-0F19C243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D0F-BBB2-45AC-B424-334AF363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DAE-A73A-4ED5-B4E9-53050DAC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F63C-DB05-45EF-8F18-1E1E18F1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69E-9D5E-4516-A3A8-4EF15DF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DFFC-AF5E-4B22-B1B9-03032F8E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Вечная Бесконечность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дравствуйте, меня зовут Трошина Яна. Мне 16 лет и я учусь в 11 классе школы № 1237. Стихотворения начала писать в 2008 году. Для меня стихотворения – это душа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нченко Ирина Владиславо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Голо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очью темной тени бродят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грозном замке тиши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ысли медленно уходя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Только страх и зеркала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Я мечусь иль тихо плач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Я искала жизни су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зазеркалье все утрачу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ожно больше не тянуть…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 голове мне слышен голос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н зовет меня игра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-Спрячу я в стекляшке волос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Будешь век его искать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ожет, мне это приснилось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ожет, голос не приче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Сердце медленнее билос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росто ты задел плеч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319640" y="1965240"/>
            <a:ext cx="48243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Земля уходит из-под н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В глазах давно все потемн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Ты мне поверить вновь не см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И счастье быстрое сгор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-И не любил он никог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А лишь играл с тобой жест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Твоя любовь – его бед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Друзья твердили мне так стр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Я слепо верила т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И забывала все на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Светил ты ярко в темнот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Ты за любовь мою в отв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378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Нельзя любить или стра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Нельзя ходить или леж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Смотреть на небо и меч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А так же нам нельзя дыш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Нельзя не выполнять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Ведь наша жизнь сплошной у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Ведь наша цель покорней ст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И в рабстве лица потер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Но мне лишь это не по нрав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Свободной быть имею прав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Любить самой, любимой бы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И по течению не плы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Открыв глаза своим меч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Летать где и не снилось 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Ведь вы в руках кого-то св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И голос вам во тьме не слыш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00720" y="1197000"/>
            <a:ext cx="428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8367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Мне часто снится по ноч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Что я смогла все измен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И часто верила оч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Что станет легче вдруг мне ж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Не говори мне о любв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Когда с другой в обнимку ходиш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Ты сам себя во всем ви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Когда ночами нервно бродиш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Зачем звонить и нагло вр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Что спят вдвоем, а не раздель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Зачем былое вспомина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Когда вдруг стало параллельно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73200" y="1599840"/>
            <a:ext cx="5770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За что так сильно наказ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Меня Всевышний и Всесиль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Зачем дорогу указ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Куда привел меня посыльны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Зачем заставил полюб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Ведь все испортила я… дур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Потом мне ведь пришлось уб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Любовь и бедного аму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И сердце уж остановилос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Зачем ты так? Оно ведь билось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39686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Цар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озволь мне окунуться в твою ду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усть ощущу там я глухую пуст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адеюсь, Твой покой я не нару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Лишь только упаду в ту темн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которой ты – всевластная цар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рикажешь – и весь мир у твоих н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ак жаль, что в жизни ты в тем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ак жаль, что так устроил это Бо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традаешь, молишься и плачеш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И жизнь не кажется сейчас ми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едь для меня ты безгранично много значи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И вместе мы всегда силь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414036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Обман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Бредя сквозь утренний ту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Восходит солнце за холм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О как пленителен об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И ложь возникла между 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Роса и иней укрыв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Поляну светлую в л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Любовь мою там растоп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Я бремя тяжкое нес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Мы так играем слепо 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Меняем маски каждый м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И нет на свете худшей б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Чем потерять свой темный л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00600" y="1197000"/>
            <a:ext cx="434340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лыбнись, мой ангел мил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унись в мир сказки и люб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де украшает окна и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вот меня с собою не з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й мир опутан злобой и морал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крылья сломаны м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 лишь являюсь хрупкою детал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бомбы атомной в руках судь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433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фг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где-то там, далеко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ивет человек так знакомый м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ночью тихой при лу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лит он Бога о меч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здесь война кругом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пусть не наша в том 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снова кровь из гниющих 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мерть мою назовут Афг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й ангел светлый за спи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ышав, духов грозный 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может нам от пуль уй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уши грешные спаст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дь где-то там далеко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дет человек так знакомый м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снова бой и снова стр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 мы вернемся лишь во сна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71636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**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Мир опутан легкой дым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Солнце село за хол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Я сижу с тупой улыб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Плакать буду лишь пот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Когда кончаться молит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Когда страх возьмет с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Это час великой бит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Не твое… и не мо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59280" y="836640"/>
            <a:ext cx="39243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Поверь мне…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Поверь мне, эти слезы не мо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Ты должен быть сейчас с др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Пусть руки сжала я тв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Хоть, ты давно уже не 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Поверь мне, эти слезы не мо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Так плачет одинокий 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И в расставанье не в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И прошлое уже не трож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Давай же выпьем за 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Бокал тягучего в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Оно напомнило мне кров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Но в этом лишь моя вин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Давай же выпьем за меч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И разойдемся навсегд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И больше не увидишь 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Меня… я не твоя судь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4643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6480000" cy="40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очему же так част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еняем мы роли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так же несчаст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есем свой пуд сол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Зачем мы теряем?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Зачем все же любим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о тоже мечтаем…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руг друга мы губим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Ты раньше не снил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Тебя я не зна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о вдруг появилс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окой потеряла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Любили мы страст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руг друга ноча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жили прекрас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дними мечтами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о вдруг приключилос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есчастье с тобо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на к нам явилас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увела за соб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Ты раньше не снил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Тебя я не з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о вдруг появил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Любовь я поз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За что так со мн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удьба поступ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Была б я жено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Жила б не туж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о жить без теб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е смогла, не сум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рости, я не з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В небеса улет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е знала мой мил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е знала, что ждеш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рости же любим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Любовь не вернеш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Ты раньше не снил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Тебя я не з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Ты вдруг появил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окой потеря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916360" y="2205000"/>
            <a:ext cx="3816360" cy="3743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564000" y="189000"/>
            <a:ext cx="2036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68120" y="2602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Ты раньше не сн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0" y="1196640"/>
            <a:ext cx="5194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Окунувшись в облако из п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Я позабыла белый с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Мне никогда не вспомнить, как мы ж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Хотя прошло не много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С подругой я гуляю там ж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В мечтах зеленых, золоты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Поверь мне, мы не стали старш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Но не вернуть деньков тех уда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Мы снова ищем приклю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Но мир не станет уж свет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И больше не найти тех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Которые для нас всего 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81960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Звер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89200" y="162864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Они не знают больше счасть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Они живут лишь тем, что е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Готовы рвать себя на ча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И помнят только слово ме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Они давно забыли Бог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В глазах озлобленность вид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Им не понятно слово мод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И вряд ли в этом их ви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Никто из нас не впустит звер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Никто не станет их жалеть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Мы с радостью захлопнем двери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Book Antiqua"/>
              </a:rPr>
              <a:t>При этом мы не звери ведь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3816360" cy="2663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0" y="3517920"/>
            <a:ext cx="378000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е любил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Твои слова, как острый но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ельзя им верить не на гр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Я знала, что опять ты лж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о разве тут уж разбереш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Любя, прощать я все хоте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емного даже преуспел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о как же дальше так нам жи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Забыл, про обещание люби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Зима сменилася вес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на теперь стала женою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Любви признанья ей дар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 про меня совсем заб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697200" y="2205000"/>
            <a:ext cx="54468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*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бреду по знакомой тропи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рез поле к церквушке с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ойду к одинокой калит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открою дрожащей ру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старушка у входа уст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лыбнувшись обнимет люб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 девчонку, что с нею меч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ужели узнала мен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нимусь по ступенькам разбит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глянусь на кресты чуть ды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молюсь я давно уж убит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же к прошлому рвется ду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29224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Дожд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Я дождусь тебя, пове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Я все преодоле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Ты слезам дождя не вер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Я справлюсь, я сумею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пускай в тиши но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уша на части рвет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едь любовь у нас с тоб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рылатою зовется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Ты так грустно не смотр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Я знаю, не забудешь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Ты любовь ее цен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Зачем так строго судишь?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пусть кружит, не устав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Холодная, могучая ме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Лишь о тебе одном мечтаю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Я не забуду… ты пове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3132000" cy="2708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13440" y="0"/>
            <a:ext cx="31305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Застыли стрелки на ча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Укрыла ночь наши сознан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Мы встретимся с тобой во с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И разойдемся без признан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Мы встретимся, поговорим опя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Мелькнет меж нами искра счасть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Но прошлое уже не помен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И не уйти нам от напасть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Пусть разделяют киломе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Меня с тобой, тебя со м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Признаюсь, мне не выдержать те вет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Что начали неравный 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5654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Другая стор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Небо грязно-серого цвет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Листья кружат над Москвой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Мир не видевший белого света..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Темный лик, опутал конвой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Этот город забыл про свободу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Люди цепи сковали себе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И не верят они больше Бог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И не рвутся к высотам, к судьб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И убили они тогда веру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Они ангелов выгнали все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И лишь служат они Люциферу…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адшему ангелу, грязных поте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3708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08360" y="-360"/>
            <a:ext cx="3178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ook Antiqua"/>
              </a:rPr>
              <a:t>Памя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96720" y="549360"/>
            <a:ext cx="9540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ы часто плачем вспомин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 той жестокой злой войн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огда родные умира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Горели в вражеском огн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огда в опасном полумрак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На голом мраморном пол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Детишки в стариковском фрак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С надеждой вглядывались в мглу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огда цвет неба поменял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страх застыл у всех в глаза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А бой кровавый продолжался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дом им снился лишь во снах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Когда от боли стиснув зуб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Товарищ друга нес в лес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повторяли его губы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Молитву тихую в бреду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помнить будем тех герое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Отдавших жизни ради на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их расстрелянное гор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И роковой, смертельный ч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1484280"/>
            <a:ext cx="23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2556000" cy="2737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754600" y="476280"/>
            <a:ext cx="33894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1179720"/>
            <a:ext cx="439272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***</a:t>
            </a:r>
            <a:br>
              <a:rPr sz="2800"/>
            </a:b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е говори о том, что было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е повторяй ошибок вновь..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Влечение, небось, уже остыло..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 потеряли мы любовь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Возможно, мир и не меня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Лишь только изменились мы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о блеск в моих глазах осталс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 не уйти уж от судьбы..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67280" y="188640"/>
            <a:ext cx="38512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Мечтам нельзя особо вер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Подвох готовят они вс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Бывает, могут лицемер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А могут и исчезнуть на совсем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о если уж случилось г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 счастье быстрое прошло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 если вы с любимым в сс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Что платье вам не подошло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Не стоит лить напрасно сле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А счастье в руки надо бр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И через жуткие мороз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Любовь свою быстрей спас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54720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</a:rPr>
              <a:t>Комочек бедст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Я слышу голос в темно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Зовет меня он в солнечную даль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И в замок снежный в высот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о это лишь деталь..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аль, простого механизма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нутри него лишь пусто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еталь, простого пессимизма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душе моей лишь темнот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Устало жду твоих я действ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Но думать поздно о мечт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Моя душа комочек бедствий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И капля воска в сожженной свеч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3909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*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252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Сны никогда не станут явь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Реальность никогда не будет сн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Мой мир опутанный мораль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Давно уже покрылся льдом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Мои мечты...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них нету смысл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вопросах я ищу отве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Меня пугают все те числа..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огда ты нежно говорил "-привет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99564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7:31:45Z</dcterms:created>
  <dc:creator>yana</dc:creator>
  <dc:description/>
  <dc:language>en-US</dc:language>
  <cp:lastModifiedBy>yana</cp:lastModifiedBy>
  <dcterms:modified xsi:type="dcterms:W3CDTF">2009-12-12T13:27:31Z</dcterms:modified>
  <cp:revision>7</cp:revision>
  <dc:subject/>
  <dc:title>Слайд 1</dc:title>
</cp:coreProperties>
</file>